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142720" y="685800"/>
            <a:ext cx="256860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9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32334-CC62-44C4-B228-8BDC0B10368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F8B0B-5B5F-46E4-AFBA-DEC28043AFC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4155B-19CD-47F8-8CFC-45F950FAB5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A5A32-50E3-4000-870B-FCF6599158E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2D4E1-2237-48D7-8A8E-853077684C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05F17-5216-4F0E-899E-5038A9CDAB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B281B-44AD-4790-B642-0170E00694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2D2A8-EC9C-4D1D-B8D6-64A0F2EE9F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2C69F-B16F-4943-9A0B-7024C8C1B7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3D33D-9048-4632-ABF8-E260B13095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13DA5-361E-4AAA-AC5A-77051F16AB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8476-07B4-44D1-847B-58BF1CDAF6C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634C7-78F9-4E9D-BC0F-58235C3912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D2F0B-F463-4E20-AAC7-5D2CF0FFAD0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15457-24EA-4504-BE25-A12FE60B6C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1890F-F2B3-4A0C-A4C3-567C002260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Text Box 2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EF7DA-B57E-4A98-BDCB-CD5D6648C49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8DD97-C74C-4A2A-9D11-7DCAEBEB5B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Text Box 3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BBF3-8301-4AA4-98D2-353C646A5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2A7B-D7CF-4DAB-B0DB-B42F5B11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1DCBB-6841-4FD3-AF15-4D77F616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4E2EF-4D53-4A19-9872-11049F10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782B3-D92E-4083-9E71-B04ED393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E0ADB-66E2-401A-853E-F9994CE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9E218-05F3-43BE-80AD-AC131CC7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53492-A2D0-43FE-A58E-34A8771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D2222-D9C9-4B1A-B90E-916B7EDA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BAF38-511B-4CD9-9917-23413F21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3A8D6-7987-459B-8F1D-190D96F49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D5D8-D968-4E09-88BE-3C6160E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7E89-F555-4342-BE1C-9E9413241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8B8FD-6626-4528-8971-EDED17C70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086E7-3772-4BED-B828-56DAFF9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DC4F1-4EF4-44B1-B95F-9172169D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0BDDC-F7C1-4E3A-9513-BF2FF95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14CB6-DB35-4048-9B81-72A96BD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7D75D-9C97-4682-ADDC-081D49A0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F233D-2247-45CC-8055-766A6D5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72F9-802C-4A47-B20B-AA0565B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F0654-A66C-4460-8E77-681975C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14252-BEC9-444F-8191-894655D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442FD-CE99-4710-A1CA-79D1668A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A0B39-E1C3-4835-9199-52788C0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E5B88-8685-411C-81B0-F3814F7DF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17BD-63E1-464C-8905-3436FF7A43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ED6B-714C-4764-8155-141D123D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16DF-457F-445F-868E-247F03F9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094A-9035-4C8A-91B2-9FA1E6B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D9F6-558A-4026-B3FA-DA948E24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7CED-15B6-4BE8-987A-F732ED67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FC99-7E22-451E-8CDB-55A8ABB6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F1D-2405-46C8-B2AF-5C473CD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0B86-F6B4-4EC1-BCD0-648191F1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E383-77FD-4D4B-975C-6871835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AFF9-ED96-4F16-B153-359DBAD2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4BAF-AA90-47ED-A7B3-1BED3D3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28D3-98BC-47D2-98FB-A12175511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C3273-E704-4171-B421-129E168B8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4EC95-99E2-4CAD-8AA7-AAB8B1DA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B32BC-BBC8-4584-8595-C84CD4B0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AED7-0DB3-416E-86F5-EAB79D46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2D98B-A1EA-46EC-A8D9-AE538CBC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39900-ABF8-4CD8-91E8-3AF727D1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B3400-CB5E-47DF-8BF6-B8AD80F8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BCA2E-F7D1-4467-92D3-1DB0B5E6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4F00D-4C38-4F66-BD11-870C6DCC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6AEFF-D03A-4B82-957B-805324E3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ECF7C-0CF2-4E55-B401-8185838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0B8B4-8EC7-4161-BFCE-54DC3742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5EE02-6581-4AA6-9C00-D34E7924D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42464-6E09-433C-A200-73A1328482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A3A9-FB60-4DC6-B9E0-4AA86FF5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5A9F0-4129-44A9-B7A8-17C3AE7E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A57FE-767C-4CA2-A190-40ECD451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4AFAC-EEE2-494B-8BD7-E8DEE519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AA962-FD4E-42A5-96DB-660D6111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EC8C9-2CDA-4F80-8C7F-9C3B82C0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2283D-2C95-45D2-82DA-FC989077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7E289-B34B-4D58-B5A6-6304DCEC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1AC08-7D27-4771-8448-BD26066A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1A3A4-3F78-4646-B237-782C79BE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CF52A-236A-4E4C-8B60-7F47AEC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830B-C7A3-47B1-B143-1AACC6D3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523C7-9110-4C0D-A8E0-71C6D26638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81E5-67BF-422B-98A5-4759B7A25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625C7-0A78-4703-BA77-D66292FD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78C9-9323-4122-9413-3886C46F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4730-10F0-4576-A0D1-349F8F5A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F85A-EFCE-4CDD-A116-CAB6B3C7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58F8-9B1A-4377-AA81-F1FFE695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9AA7-D1DE-42C4-B093-6F73274B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45FA-FB8B-48B7-A805-3341C8E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4FCD-20AC-4156-A4A7-673BC306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2BD0-D4DF-4FB9-A307-52EC3A2B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C7051-DD7C-4D1D-B05D-CCD9C46B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A21F-7A71-4EFB-912C-2F2E2D3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2882-FD2D-4A21-8726-22678C77F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56053-65A9-4EA9-A050-C5D4285111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B5CF7-ABB2-4798-B8C9-860B3F78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9FA6E-4971-4FD6-AD66-12FA161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9F552-EB90-48B5-9634-E040FE0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52780-57A9-441C-ABBF-BDE591B0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D09D3-863B-4BE1-BB50-AE50FEE7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729B7-55BC-4EE0-9D4C-9839EF9D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E8C5-2F22-4F7B-B2EE-54987FF3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00039-5E2D-43E4-AB26-1ABE1AB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F3AE4-F10D-4BD2-8813-177489C9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4A9D8-DAD2-4720-9DF4-0D1AFE5C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AFFF4-C572-4A4A-84D2-ADB6875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119E3-AD6A-4D31-87E2-71C014711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55FC3-B096-42DB-B399-DA174D617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B55B5-28CB-4200-BD65-F5156426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C29827-C6C5-4C4C-A2BF-9BB25FD2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7093F4-B2E0-4E47-8425-3719E593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A16719-6DE4-4330-A01F-F20138D6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FA44-B5E3-4821-8ED3-23EA04D8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40F62F-608F-49AB-A553-F24DC6AC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B7A3D-A205-4FFD-B615-A2D99DE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CD43BE-F93E-4AC5-A554-6940216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4D3239-DC8F-4D46-B08B-38FC91AA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43080" y="512496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1E8761-67BD-4031-B795-17C663A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04240" y="197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4308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504240" y="512496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A4A99-0263-4CF8-AA83-F37EF59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42892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14760" y="197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4308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42892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514760" y="512496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851076-970C-4EA3-96E3-30DE5BFB5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68F9F-746B-4B7C-B577-7EA3E642E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08590-B944-4426-93FC-6741A07F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E6536-628A-44F2-88BF-989A25E6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ABB302-E7FB-4036-BCD4-E74A5FEE01D5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0" y="6218280"/>
            <a:ext cx="68626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-3240" y="6603840"/>
            <a:ext cx="6858000" cy="2546640"/>
            <a:chOff x="-3240" y="6603840"/>
            <a:chExt cx="6858000" cy="2546640"/>
          </a:xfrm>
        </p:grpSpPr>
        <p:sp>
          <p:nvSpPr>
            <p:cNvPr id="49" name="Freeform 3"/>
            <p:cNvSpPr/>
            <p:nvPr/>
          </p:nvSpPr>
          <p:spPr>
            <a:xfrm>
              <a:off x="1271520" y="6603840"/>
              <a:ext cx="5577120" cy="646200"/>
            </a:xfrm>
            <a:custGeom>
              <a:avLst/>
              <a:gdLst>
                <a:gd name="textAreaLeft" fmla="*/ 0 w 5577120"/>
                <a:gd name="textAreaRight" fmla="*/ 5577480 w 557712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34920" y="6981840"/>
              <a:ext cx="6813720" cy="1046160"/>
            </a:xfrm>
            <a:custGeom>
              <a:avLst/>
              <a:gdLst>
                <a:gd name="textAreaLeft" fmla="*/ 0 w 6813720"/>
                <a:gd name="textAreaRight" fmla="*/ 6814080 w 6813720"/>
                <a:gd name="textAreaTop" fmla="*/ 0 h 1046160"/>
                <a:gd name="textAreaBottom" fmla="*/ 1046520 h 10461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3240" y="6662880"/>
              <a:ext cx="6851520" cy="2487600"/>
              <a:chOff x="3240" y="6662880"/>
              <a:chExt cx="6851520" cy="2487600"/>
            </a:xfrm>
          </p:grpSpPr>
          <p:pic>
            <p:nvPicPr>
              <p:cNvPr id="5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6662880"/>
                <a:ext cx="685152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7"/>
              <p:cNvSpPr/>
              <p:nvPr/>
            </p:nvSpPr>
            <p:spPr>
              <a:xfrm>
                <a:off x="7920" y="6667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6649920"/>
              <a:ext cx="6858000" cy="10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2ACDDA-1D6D-40FD-8027-CA026BA08338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99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727360" y="4006800"/>
            <a:ext cx="138240" cy="304920"/>
          </a:xfrm>
          <a:custGeom>
            <a:avLst/>
            <a:gdLst>
              <a:gd name="textAreaLeft" fmla="*/ 0 w 138240"/>
              <a:gd name="textAreaRight" fmla="*/ 138600 w 138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2587680" y="4006800"/>
            <a:ext cx="136440" cy="304920"/>
          </a:xfrm>
          <a:custGeom>
            <a:avLst/>
            <a:gdLst>
              <a:gd name="textAreaLeft" fmla="*/ 0 w 136440"/>
              <a:gd name="textAreaRight" fmla="*/ 136800 w 136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531085-C680-4619-952D-8BE54F92A90A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148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369BF7-0A27-4F73-BD2D-C4406D6CCCA2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52A68F-3AD9-4168-A386-07DF2EE6B53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236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1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C71DE0-5D48-45A5-AE5C-B44FFA865EF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4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1C869A-9685-4E74-B33B-BA0B9DB08F0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324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7"/>
          <p:cNvSpPr/>
          <p:nvPr/>
        </p:nvSpPr>
        <p:spPr>
          <a:xfrm>
            <a:off x="6497640" y="6651720"/>
            <a:ext cx="138240" cy="304560"/>
          </a:xfrm>
          <a:custGeom>
            <a:avLst/>
            <a:gdLst>
              <a:gd name="textAreaLeft" fmla="*/ 0 w 138240"/>
              <a:gd name="textAreaRight" fmla="*/ 138600 w 1382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6357960" y="6651720"/>
            <a:ext cx="138240" cy="304560"/>
          </a:xfrm>
          <a:custGeom>
            <a:avLst/>
            <a:gdLst>
              <a:gd name="textAreaLeft" fmla="*/ 0 w 138240"/>
              <a:gd name="textAreaRight" fmla="*/ 138600 w 1382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5"/>
          </p:nvPr>
        </p:nvSpPr>
        <p:spPr>
          <a:xfrm>
            <a:off x="5044680" y="8543520"/>
            <a:ext cx="14367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284640" y="8543880"/>
            <a:ext cx="1763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6"/>
          </p:nvPr>
        </p:nvSpPr>
        <p:spPr>
          <a:xfrm>
            <a:off x="6485040" y="8543520"/>
            <a:ext cx="271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D683A4-6D36-4E94-8CE8-B51DC0D9FA9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374760" y="7926480"/>
            <a:ext cx="3705120" cy="1228680"/>
          </a:xfrm>
          <a:custGeom>
            <a:avLst/>
            <a:gdLst>
              <a:gd name="textAreaLeft" fmla="*/ 0 w 3705120"/>
              <a:gd name="textAreaRight" fmla="*/ 3705480 w 370512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363600" y="7918560"/>
            <a:ext cx="2768400" cy="1244520"/>
          </a:xfrm>
          <a:custGeom>
            <a:avLst/>
            <a:gdLst>
              <a:gd name="textAreaLeft" fmla="*/ 0 w 2768400"/>
              <a:gd name="textAreaRight" fmla="*/ 2768400 w 2768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-12600" y="7716960"/>
            <a:ext cx="2563560" cy="1447560"/>
            <a:chOff x="-12600" y="7716960"/>
            <a:chExt cx="2563560" cy="1447560"/>
          </a:xfrm>
        </p:grpSpPr>
        <p:pic>
          <p:nvPicPr>
            <p:cNvPr id="37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7716960"/>
              <a:ext cx="256356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5"/>
            <p:cNvSpPr/>
            <p:nvPr/>
          </p:nvSpPr>
          <p:spPr>
            <a:xfrm>
              <a:off x="208080" y="8562960"/>
              <a:ext cx="12729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5" name="Picture 6" descr=""/>
          <p:cNvPicPr/>
          <p:nvPr/>
        </p:nvPicPr>
        <p:blipFill>
          <a:blip r:embed="rId3"/>
          <a:stretch/>
        </p:blipFill>
        <p:spPr>
          <a:xfrm>
            <a:off x="-12600" y="7705800"/>
            <a:ext cx="2566800" cy="146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43080" y="197496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17"/>
          </p:nvPr>
        </p:nvSpPr>
        <p:spPr>
          <a:xfrm>
            <a:off x="4915080" y="8330760"/>
            <a:ext cx="15969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67F581-8E8A-40E8-BB54-9BD17D3B5F91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dt" idx="18"/>
          </p:nvPr>
        </p:nvSpPr>
        <p:spPr>
          <a:xfrm>
            <a:off x="343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5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31280" y="56289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Стародеревянковское сельское посел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C7AC-C498-4B09-90EC-3DD7925E0E7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502920" y="2879280"/>
            <a:ext cx="61722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                      </a:t>
            </a: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Бюджет </a:t>
            </a:r>
            <a:br>
              <a:rPr sz="4100"/>
            </a:b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для граждан 2021 год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343080" y="711360"/>
            <a:ext cx="6172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одготовлен на основе требований Бюджетного Кодекса Российской  Федерации, решения Совета Стародеревянковского сельского поселения Каневского района «О бюджетном процессе в Стародеревянковском сельском поселении Каневского района», иных законодательных,  нормативных правовых актов Российской Федерации, Краснодарского края и Совета Старославянского сельского поселения Каневского район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9C8B6-84EE-4FDB-8440-64E1C322AF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343080" y="1143000"/>
            <a:ext cx="6172200" cy="73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Краснодарскому краю за 2021 год администрировало доходы местного бюджета на общую сумму 101266,9 тыс. рублей, а именно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 68950,5 тыс. рублей, в том числ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Налог на доходы физических лиц - на сумму 23556,3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Единый сельскохозяйственный налог - на сумму 4892,3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Налог на имущество физических лиц – на сумму 4763,2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Земельный налог - на сумму 25483,8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енежные взыскания и штрафы - на сумму 245,2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Прочие поступления от использования имущества - на сумму 499,6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- на сумму 9030,8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ходы от реализации имущества, находящегося в собственности сельских поселений – 418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ходы от оказания платных услуг и компенсации затрат государства – 55,4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Государственная политика – 5,4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Безвозмездные поступления — 32316,5 тыс. рублей, в том числ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Субсидии бюджетам бюджетной системы Российской Федерации - на сумму 18838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осуществляют военные комиссариаты - на сумму 736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передаваемых полномочий - на сумму 7,6 тыс.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Иные межбюджетные трансферты - на сумму 426,6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Дотации бюджетам бюджетной системы Российской Федерации – 7277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- Прочие дотации – 5031,1 тыс. рублей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9BA28-6C63-4999-B37F-B94E00A662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128520" y="225360"/>
            <a:ext cx="635796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457200" y="324000"/>
          <a:ext cx="6211800" cy="8258040"/>
        </p:xfrm>
        <a:graphic>
          <a:graphicData uri="http://schemas.openxmlformats.org/drawingml/2006/table">
            <a:tbl>
              <a:tblPr/>
              <a:tblGrid>
                <a:gridCol w="4761000"/>
                <a:gridCol w="1231920"/>
                <a:gridCol w="218880"/>
              </a:tblGrid>
              <a:tr h="564840">
                <a:tc rowSpan="2">
                  <a:txBody>
                    <a:bodyPr lIns="90000" rIns="90000" tIns="89640" bIns="46800" anchor="ctr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89640" bIns="46800" anchor="ctr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6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5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 госуда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b">
                      <a:noAutofit/>
                    </a:bodyPr>
                    <a:p>
                      <a:pPr marL="343080" indent="-339840" algn="ctr">
                        <a:lnSpc>
                          <a:spcPct val="8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103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11643-CC9E-4276-9AB7-A153A83D12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343080" y="1371600"/>
            <a:ext cx="651492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ическое исполнение и общие кассовые расходы бюджетных ассигнований за 2021 год по  муниципальному образованию Стародеревянковское сельское поселение Каневской район составили 101533,9 тыс.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сходы были осуществлены по следующим разделам бюджетной классифик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100 «Общегосударственные вопросы» - 23534,1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200 «Национальная оборона» - 736,0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300 «Национальная безопасность и правоохранительная деятельность» - 29,5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400 «Национальная экономика» - 35689,6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500 «ЖКХ» - 26552,1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700 «Образование» - 60,0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0800 «Культура или кинематография» - 11580,5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000 «Социальная политика» - 45,0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100 «Физическая культура и спорт» - 3301,3 тыс. руб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300 «Обслуживание государственного и муниципального долга» - 5,8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F3BB7-807C-4B5B-8FA6-507C781687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165240" y="603360"/>
            <a:ext cx="6357960" cy="85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333360" y="609480"/>
          <a:ext cx="6175440" cy="7213680"/>
        </p:xfrm>
        <a:graphic>
          <a:graphicData uri="http://schemas.openxmlformats.org/drawingml/2006/table">
            <a:tbl>
              <a:tblPr/>
              <a:tblGrid>
                <a:gridCol w="3220920"/>
                <a:gridCol w="1108080"/>
                <a:gridCol w="1108080"/>
                <a:gridCol w="738360"/>
              </a:tblGrid>
              <a:tr h="1217880"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поселения: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03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3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6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1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8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1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5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8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89640" bIns="46800" anchor="ctr">
                      <a:noAutofit/>
                    </a:bodyPr>
                    <a:p>
                      <a:pPr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9640" bIns="46800" anchor="ctr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Text Box 162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3B68B-6DFD-4F51-AAA6-025590C164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343080" y="609480"/>
            <a:ext cx="6172200" cy="78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21 году были приняты следующие целевые программы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 муниципального образования «Обеспечение реализации функций муниципального образования, связанных с муниципальным управлением» - 1377,8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2. Муниципальная программа «Информационное общество Стародеревянковского сельского поселения Каневского района» - 1065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3. Муниципальная программа «Укрепление правопорядка и профилактика правонарушений на территории поселения» - 14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4. Муниципальная программа «Пожарная безопасность в Стародеревянковском сельском поселении Каневского района» - 35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5. Муниципальная программа «Развитие сельского хозяйства» - 2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6. Муниципальная программа «Комплексное и устойчивое развитие Стародеревянковского сельского поселения Каневского района в сфере дорожного хозяйства» - 34828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7. Муниципальная программа «Развитие Стародеревянковского сельского поселения Каневского района в сфере землепользования» - 859,1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8. Муниципальная программа «Развитие жилищно-коммунального хозяйства» - 9569,2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9. Муниципальная программа «Развитие благоустройства на территории Стародеревянковского сельского поселения Каневского района» - 16653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0. Муниципальная программа «Молодежь Стародеревянковского сельского поселения Каневского района» - 60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1. Муниципальная «Развитие культуры и кинематографии в Стародеревянковском сельском поселении Каневского района» - 11580,5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2. Муниципальная программа «Социальная политика Стародеревянковского сельского поселения Каневского района» - 106,0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3. Муниципальная программа «Развитие физической культуры и спорта» - 3301,3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4. Муниципальная программа «Улучшение условий и охраны труда в администрации Стародеревянковского сельского поселения Каневского района на 2020-2022 годы» - 25,9 тыс. рублей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5. Муниципальная программа «Энергосбережение и повышение энергетической эффективности на территории Стародеревянковского сельского поселения Каневского района на 2020-2022 годы» 5,0 тыс. рублей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6E5FD-4A78-4E70-AEE1-820961FFA5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FBF5-DD7A-4F4E-AC36-8674F2718B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44360" y="255600"/>
            <a:ext cx="3848040" cy="45212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>
            <a:off x="2876400" y="3746520"/>
            <a:ext cx="380232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343080" y="609480"/>
            <a:ext cx="6172200" cy="77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2021 году израсходовано денежных средств в сумме 2624,0 тыс. рублей на оплату за потребление электроэнергии по уличному освещению. Также по техническому и текущему ремонту уличного освещения израсходована сумма 767,1 тыс. руб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дминистрация Стародеревянковского сельского поселения является учредителем МУП «Озеленение», созданного в целях выполнения задач, возложенных на органы местного самоуправления в области коммунально-бытового обслуживания населения и содержания муниципального жилищного фонда. Согласно договоров МУП «Озеленение» выполнили работы на сумму 14975,4 тыс. рубле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ликвидации стихийных свалок на 460,0 тыс. руб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озеленению (покос травы, обрезка валка деревьев, высадка саженцев) на 3158,9 тыс. руб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грейдированию дорог на 5761,6 тыс. руб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 по прочему благоустройству (вывоз мусора, уборка территории парка, покраска) на сумму 5594,9 тыс. руб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6485040" y="8543880"/>
            <a:ext cx="274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1D376-6E46-47C8-9530-3F30DA9DB3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Viktor</cp:lastModifiedBy>
  <cp:lastPrinted>2020-05-28T12:17:32Z</cp:lastPrinted>
  <dcterms:modified xsi:type="dcterms:W3CDTF">2022-07-14T11:31:1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